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7BA5D-2179-4519-9A53-7D83AE5DF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ACC30-7CBD-445D-9907-62A5A2EEA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D7FD2-6AD3-4E73-A2AB-F7F931B68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B83E9-E27C-4A10-A0C6-56EBDA0A70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9DC16-56F3-43FF-87FE-57FA6E04E4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4E59-EDB3-4BA0-BBD1-D1E6AB4A9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EE50-5D0D-4358-8C57-0583E7C63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E6A0-80A3-439E-992F-2898FF27A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89F9-3785-4C8E-9FC3-57A1E150A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E4D90-FAA5-4707-B167-F22A8A2FC6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70837-582D-4B44-BF8B-9FAD40FCD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E69C4-236E-43EA-9C16-94EE4B98D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44E6-47DA-44E4-8569-7B27B90E8C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4616-02F4-43BF-ABFD-F54380C750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Double Click to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D781-9DFB-4C9C-A685-5776BE86F9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269D-131C-4D9B-A0D9-3A2B97859B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A348-2E38-44C1-94ED-E2654A3B44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F706-A4A4-4D8F-B887-6F17A35307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s.yearley</cp:lastModifiedBy>
  <dcterms:modified xsi:type="dcterms:W3CDTF">2012-02-07T16:05:05Z</dcterms:modified>
  <cp:revision>8</cp:revision>
  <dc:subject/>
  <dc:title>&lt;Title&gt;</dc:title>
</cp:coreProperties>
</file>